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D7CE-DB44-423D-B998-9E65240EB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FAA5-6285-403D-9422-8E2C3874D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72F7-AB2B-4C61-BB40-01937CD0E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imple.wikipedia.org/wiki/File:ATP.jp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135F-11F6-450F-8D42-CB5500A36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transcription/overview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3142-8543-4D9E-91DC-38D5A167F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towler.com/taxonomy/term/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48B3-1425-4BC3-88FA-7BD586F3C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3C3F-4D9C-4138-8EF3-01745C45E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politicaltimes.org/img/original/DNA5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002D-07E0-402A-AEC5-D56FE3D99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un.ca/biology/scarr/Ribose_suga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00AC-BE5D-4DCB-A576-1AA318795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ous bases (purines &amp; pyrimid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.arizona.edu/biochemistry/problem_sets/large_molecules/06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A920-03DF-417E-8150-311C04EB1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roprofs.com/flashcards/cardshowall.php?title=exam-5-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6856-9E02-47BE-912B-108E612F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.miami.edu/dana/250/250SS10_7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88DB-9705-4189-8A95-1A028A55E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and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eltina.org/health-dictionary/rna-ribonucleic-acid-definition-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D23-D085-4AB4-9A27-3F385457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F10-C4ED-48A4-8DED-A6DA1E9C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7B7-A8CF-4538-AB01-75DD69E5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679-7591-43D8-9C91-D988C98A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571-B989-4FFD-A816-616F5557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6CD-463C-4079-A4C3-85A0C242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83D-0923-472C-BFA6-5C03C5C0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5CDF-0F32-41C8-9154-508E15FE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47E-8928-4459-B64E-B8D60D69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53F-63B3-4EC1-9923-22627844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716-FEBC-4066-B2AC-8C207D70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6DC-7CAF-4732-893C-CDBEFAAE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AAC1-6F97-4CFE-BE65-185021AB3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I4U - 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molecules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oside Triphosph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nosine triphosphate (ATP) is used to power reactions in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ATP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centdog"/>
          <p:cNvPicPr/>
          <p:nvPr/>
        </p:nvPicPr>
        <p:blipFill>
          <a:blip r:embed="rId1"/>
          <a:stretch/>
        </p:blipFill>
        <p:spPr>
          <a:xfrm>
            <a:off x="3086280" y="1981080"/>
            <a:ext cx="297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nucleic acid (DNA) and ribonucleic acid (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nutrients (like proteins, carbs, lip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for all 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assembly &amp; heredita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ic acids are polymer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nucleotide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oxyribose &amp; Rib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Fg10_09b_revised"/>
          <p:cNvPicPr/>
          <p:nvPr/>
        </p:nvPicPr>
        <p:blipFill>
          <a:blip r:embed="rId1"/>
          <a:stretch/>
        </p:blipFill>
        <p:spPr>
          <a:xfrm>
            <a:off x="1484280" y="1981080"/>
            <a:ext cx="617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06ta"/>
          <p:cNvPicPr/>
          <p:nvPr/>
        </p:nvPicPr>
        <p:blipFill>
          <a:blip r:embed="rId1"/>
          <a:stretch/>
        </p:blipFill>
        <p:spPr>
          <a:xfrm>
            <a:off x="685800" y="2882880"/>
            <a:ext cx="77724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q4570257"/>
          <p:cNvPicPr/>
          <p:nvPr/>
        </p:nvPicPr>
        <p:blipFill>
          <a:blip r:embed="rId1"/>
          <a:stretch/>
        </p:blipFill>
        <p:spPr>
          <a:xfrm>
            <a:off x="1946160" y="1981080"/>
            <a:ext cx="524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hosphodiester"/>
          <p:cNvPicPr/>
          <p:nvPr/>
        </p:nvPicPr>
        <p:blipFill>
          <a:blip r:embed="rId1"/>
          <a:stretch/>
        </p:blipFill>
        <p:spPr>
          <a:xfrm>
            <a:off x="1827360" y="1981080"/>
            <a:ext cx="548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rna"/>
          <p:cNvPicPr/>
          <p:nvPr/>
        </p:nvPicPr>
        <p:blipFill>
          <a:blip r:embed="rId1"/>
          <a:stretch/>
        </p:blipFill>
        <p:spPr>
          <a:xfrm>
            <a:off x="1870200" y="609480"/>
            <a:ext cx="5403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7:25Z</dcterms:created>
  <dc:creator>rubina khan</dc:creator>
  <dc:description/>
  <dc:language>en-US</dc:language>
  <cp:lastModifiedBy>rubina khan</cp:lastModifiedBy>
  <dcterms:modified xsi:type="dcterms:W3CDTF">2017-02-16T11:15:25Z</dcterms:modified>
  <cp:revision>192</cp:revision>
  <dc:subject/>
  <dc:title>Organic Chemistry</dc:title>
</cp:coreProperties>
</file>